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8.png" ContentType="image/png"/>
  <Override PartName="/ppt/media/image14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  <p:sldId id="288" r:id="rId40"/>
    <p:sldId id="289" r:id="rId41"/>
    <p:sldId id="290" r:id="rId42"/>
    <p:sldId id="291" r:id="rId43"/>
    <p:sldId id="292" r:id="rId44"/>
    <p:sldId id="293" r:id="rId45"/>
    <p:sldId id="294" r:id="rId46"/>
    <p:sldId id="295" r:id="rId47"/>
    <p:sldId id="296" r:id="rId48"/>
    <p:sldId id="297" r:id="rId49"/>
    <p:sldId id="298" r:id="rId50"/>
    <p:sldId id="299" r:id="rId51"/>
    <p:sldId id="300" r:id="rId52"/>
    <p:sldId id="301" r:id="rId53"/>
    <p:sldId id="302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slide" Target="slides/slide33.xml"/><Relationship Id="rId41" Type="http://schemas.openxmlformats.org/officeDocument/2006/relationships/slide" Target="slides/slide34.xml"/><Relationship Id="rId42" Type="http://schemas.openxmlformats.org/officeDocument/2006/relationships/slide" Target="slides/slide35.xml"/><Relationship Id="rId43" Type="http://schemas.openxmlformats.org/officeDocument/2006/relationships/slide" Target="slides/slide36.xml"/><Relationship Id="rId44" Type="http://schemas.openxmlformats.org/officeDocument/2006/relationships/slide" Target="slides/slide37.xml"/><Relationship Id="rId45" Type="http://schemas.openxmlformats.org/officeDocument/2006/relationships/slide" Target="slides/slide38.xml"/><Relationship Id="rId46" Type="http://schemas.openxmlformats.org/officeDocument/2006/relationships/slide" Target="slides/slide39.xml"/><Relationship Id="rId47" Type="http://schemas.openxmlformats.org/officeDocument/2006/relationships/slide" Target="slides/slide40.xml"/><Relationship Id="rId48" Type="http://schemas.openxmlformats.org/officeDocument/2006/relationships/slide" Target="slides/slide41.xml"/><Relationship Id="rId49" Type="http://schemas.openxmlformats.org/officeDocument/2006/relationships/slide" Target="slides/slide42.xml"/><Relationship Id="rId50" Type="http://schemas.openxmlformats.org/officeDocument/2006/relationships/slide" Target="slides/slide43.xml"/><Relationship Id="rId51" Type="http://schemas.openxmlformats.org/officeDocument/2006/relationships/slide" Target="slides/slide44.xml"/><Relationship Id="rId52" Type="http://schemas.openxmlformats.org/officeDocument/2006/relationships/slide" Target="slides/slide45.xml"/><Relationship Id="rId53" Type="http://schemas.openxmlformats.org/officeDocument/2006/relationships/slide" Target="slides/slide46.xml"/><Relationship Id="rId54" Type="http://schemas.openxmlformats.org/officeDocument/2006/relationships/slide" Target="slides/slide47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F29B42-0973-4B75-AF15-3EC8D261B1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57632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500C63-CA07-4597-856B-8BA18EE0FA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5763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5763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24E6A-6772-45CE-AA5F-98D411BC8E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23317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23317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5763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5763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5763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90FEAB-AA97-4AE3-841C-DD9B847BBC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3A4A8D-8CAE-4942-8706-82327AA108E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129501-9C58-4CBC-8F9E-4154E21DEA8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DC016F-6E39-489B-9413-62FAD8088AC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F156DE-3378-441E-87E9-DC003102517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723E65-0F69-4AB1-88EF-B2AD88495CB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AB5956-2F09-4482-8A64-E2F3F1255EA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5763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A01EFD-E245-456A-AD22-31CFC752CB1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A5F9A2-A81B-41DE-9FF8-D586635417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5763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DF9523-BE10-42A1-8FBD-36D1F0777B9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57632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32F673-8696-4D06-AC9B-BED9A5293E4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57632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17C17D-0A30-4CFE-9908-CC8E7B6FA49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5763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5763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627D73-2E92-4415-9DDF-4BC488D454E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23317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23317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5763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5763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5763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7507F9-9E35-4F9A-B82B-2B4115BBAFB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B5563-F7B0-48EA-A01D-7688973DB1DF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75328-6558-4F6D-993D-3808A663BFB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0C5B8-9D84-4C8B-99A1-D57644167D5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F90FC-04AC-4CF1-809B-8CAA0CF4CB6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3C98C-9E02-471C-AA70-2CA353A64C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6FEA4-DC5D-4502-86D8-F2A30CFC64A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F4719-37DD-4965-BA0F-0F3C6EC28B7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5763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01F7D-291E-4A34-B933-741862F98BA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5763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DE16C-36B2-4438-9DC0-C8A6973B3E6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57632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D38FB-8F8C-48B0-A33F-069ADD96193C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57632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67725-C23A-4FD6-B57F-CBFEADB2C13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5763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5763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53177-2D94-4378-A2D2-283327F33FF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23317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23317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5763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5763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5763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B2884-6D93-4BA8-A0F2-1F18F1C10BC1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0DB023E-43C2-4602-8308-B9379D11EE6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9CD5EF-FB23-48FD-AC06-40D76A6AD58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337739-2489-454E-B9C3-4284565FC2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97E1F-8914-47FE-B327-BF51C6BA0ED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ED5130-5041-4893-8897-E34685CD9F5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573AF9-C921-4CB9-B2DB-648EFDDB2C4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BBDA57-3FED-4401-B9DB-9F836378F30D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5763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63D5B94-6C2D-4B0A-9C8A-C1339F13F06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5763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424C09-60A4-4237-AE62-24788E19F65A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57632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8E0C02A-3EAC-48E9-A3DD-87B2B2255D57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57632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04096C-6898-4B3C-9BFD-1598B6D3117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5763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5763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29C83F-0468-413D-913C-55C862F48CA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23317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23317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5763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5763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5763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C6BA6AB-F927-4BFE-8C50-EBA2C423B82D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D835CE-B6E1-4D77-A183-9740519129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6AFFD9-EE32-4681-8D1C-C605531315B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5C68377-E58B-4556-BAE5-7AA24DE37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0DC5FC4-EB66-4160-8038-E4520CCF9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7BEA87F-C03F-4E33-A2ED-9D006C9C1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3105B3-86CF-4B87-B7EE-3E2E4E209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DDA85D-0B96-4D02-93EE-84B45091E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5763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933970C-363D-44EC-B23B-5DA7FC813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45763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7815CA-A5CE-406A-8B6B-48692D70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57632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8E1562-12D8-48EA-9C97-AD719508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457632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EDBDD89-C43F-447E-94A5-4B8FBA246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45763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45763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216AC1-CCF2-433A-966E-3601AC368C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196F49-323C-4BD7-A276-42B900D2761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23317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23317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45763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45763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45763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2BA2F1-1360-46F8-A38B-58FF4A213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0A520C-A806-4B03-A545-AA7BEE4B9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4AFDDA-7005-41EE-A2F2-A837BDA12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419C375-82CE-46F6-B3CB-EF2F52CF9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BE6686E-6D88-48EF-A292-0FD2F1495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20F8C0-A074-411F-BF30-34462B62A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D45D34-2A3D-47DF-8BC2-99A449749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5763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2480D04-D82A-4C7C-A84B-3D3FFF4A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45763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47EA130-1BCA-4AD6-AE64-9F23B59E8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57632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94858CB-40A2-40EE-86CE-E9213D6DE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5763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8487B7-6D73-40F0-A32F-B2B7078022E5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457632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0B283C-4F90-4B11-8006-8AB811824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5763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45763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27432E-907F-40D1-8D26-24345CF83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23317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23317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45763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45763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45763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29EB2F-4066-4A3A-9D86-1B8607F85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5763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2A596F-A87C-4E9C-85C3-D0CA493A6E0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57632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D8121B-0C11-4715-A33D-A078133FC7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Kuva 4" descr="kans_ppt_eur_3.pd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Kuva 9" descr=""/>
          <p:cNvPicPr/>
          <p:nvPr/>
        </p:nvPicPr>
        <p:blipFill>
          <a:blip r:embed="rId3"/>
          <a:stretch/>
        </p:blipFill>
        <p:spPr>
          <a:xfrm>
            <a:off x="228600" y="6407280"/>
            <a:ext cx="465120" cy="45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912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1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22824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1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23307-B2F8-4AE1-A2A2-F5A63B7AA4FE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Picture 7" descr=""/>
          <p:cNvPicPr/>
          <p:nvPr/>
        </p:nvPicPr>
        <p:blipFill>
          <a:blip r:embed="rId5"/>
          <a:stretch/>
        </p:blipFill>
        <p:spPr>
          <a:xfrm rot="15798000">
            <a:off x="1609560" y="-882720"/>
            <a:ext cx="1181160" cy="306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Kuva 4" descr="kans_ppt_eur_3.pd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Kuva 9" descr=""/>
          <p:cNvPicPr/>
          <p:nvPr/>
        </p:nvPicPr>
        <p:blipFill>
          <a:blip r:embed="rId3"/>
          <a:stretch/>
        </p:blipFill>
        <p:spPr>
          <a:xfrm>
            <a:off x="228600" y="6407280"/>
            <a:ext cx="465120" cy="450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tretch/>
        </p:blipFill>
        <p:spPr>
          <a:xfrm rot="15798000">
            <a:off x="1609560" y="-882720"/>
            <a:ext cx="1181160" cy="30607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60912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1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4"/>
          </p:nvPr>
        </p:nvSpPr>
        <p:spPr>
          <a:xfrm>
            <a:off x="22824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1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ED6AD-AD44-49C9-AE69-7D723026A986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Kuva 4" descr="kans_ppt_eur_3.pd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Kuva 9" descr=""/>
          <p:cNvPicPr/>
          <p:nvPr/>
        </p:nvPicPr>
        <p:blipFill>
          <a:blip r:embed="rId3"/>
          <a:stretch/>
        </p:blipFill>
        <p:spPr>
          <a:xfrm>
            <a:off x="228600" y="6407280"/>
            <a:ext cx="465120" cy="450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"/>
          <p:cNvPicPr/>
          <p:nvPr/>
        </p:nvPicPr>
        <p:blipFill>
          <a:blip r:embed="rId4"/>
          <a:stretch/>
        </p:blipFill>
        <p:spPr>
          <a:xfrm rot="15798000">
            <a:off x="1609560" y="-882720"/>
            <a:ext cx="1181160" cy="30607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5"/>
          </p:nvPr>
        </p:nvSpPr>
        <p:spPr>
          <a:xfrm>
            <a:off x="685440" y="647676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1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6"/>
          </p:nvPr>
        </p:nvSpPr>
        <p:spPr>
          <a:xfrm>
            <a:off x="22824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1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940CE-7B65-4888-A8B0-363B09158B18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Kuva 4" descr="kans_ppt_eur_3.pd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Kuva 9" descr=""/>
          <p:cNvPicPr/>
          <p:nvPr/>
        </p:nvPicPr>
        <p:blipFill>
          <a:blip r:embed="rId3"/>
          <a:stretch/>
        </p:blipFill>
        <p:spPr>
          <a:xfrm>
            <a:off x="228600" y="6407280"/>
            <a:ext cx="465120" cy="45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"/>
          <p:cNvPicPr/>
          <p:nvPr/>
        </p:nvPicPr>
        <p:blipFill>
          <a:blip r:embed="rId4"/>
          <a:stretch/>
        </p:blipFill>
        <p:spPr>
          <a:xfrm rot="15798000">
            <a:off x="1609560" y="-882720"/>
            <a:ext cx="1181160" cy="3060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"/>
          <p:cNvPicPr/>
          <p:nvPr/>
        </p:nvPicPr>
        <p:blipFill>
          <a:blip r:embed="rId5"/>
          <a:stretch/>
        </p:blipFill>
        <p:spPr>
          <a:xfrm>
            <a:off x="3981600" y="1898640"/>
            <a:ext cx="1180800" cy="30607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ftr" idx="7"/>
          </p:nvPr>
        </p:nvSpPr>
        <p:spPr>
          <a:xfrm>
            <a:off x="60912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1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sldNum" idx="8"/>
          </p:nvPr>
        </p:nvSpPr>
        <p:spPr>
          <a:xfrm>
            <a:off x="22824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1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2483E-6EFA-4FDD-AE00-00B7F3F00E0B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Kuva 4" descr="kans_ppt_eur_3.pd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4" name="Kuva 9" descr=""/>
          <p:cNvPicPr/>
          <p:nvPr/>
        </p:nvPicPr>
        <p:blipFill>
          <a:blip r:embed="rId3"/>
          <a:stretch/>
        </p:blipFill>
        <p:spPr>
          <a:xfrm>
            <a:off x="228600" y="6407280"/>
            <a:ext cx="465120" cy="4507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"/>
          <p:cNvPicPr/>
          <p:nvPr/>
        </p:nvPicPr>
        <p:blipFill>
          <a:blip r:embed="rId4"/>
          <a:stretch/>
        </p:blipFill>
        <p:spPr>
          <a:xfrm rot="15798000">
            <a:off x="1609560" y="-882720"/>
            <a:ext cx="1181160" cy="30607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0"/>
          </p:nvPr>
        </p:nvSpPr>
        <p:spPr>
          <a:xfrm>
            <a:off x="60912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1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1"/>
          </p:nvPr>
        </p:nvSpPr>
        <p:spPr>
          <a:xfrm>
            <a:off x="22824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1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9A26A-3856-4498-8334-7200AC2F33B4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Kuva 4" descr="kans_ppt_eur_3.pd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8" name="Kuva 9" descr=""/>
          <p:cNvPicPr/>
          <p:nvPr/>
        </p:nvPicPr>
        <p:blipFill>
          <a:blip r:embed="rId3"/>
          <a:stretch/>
        </p:blipFill>
        <p:spPr>
          <a:xfrm>
            <a:off x="228600" y="6407280"/>
            <a:ext cx="465120" cy="4507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"/>
          <p:cNvPicPr/>
          <p:nvPr/>
        </p:nvPicPr>
        <p:blipFill>
          <a:blip r:embed="rId4"/>
          <a:stretch/>
        </p:blipFill>
        <p:spPr>
          <a:xfrm rot="15798000">
            <a:off x="1609560" y="-882720"/>
            <a:ext cx="1181160" cy="306072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3"/>
          </p:nvPr>
        </p:nvSpPr>
        <p:spPr>
          <a:xfrm>
            <a:off x="60912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1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4"/>
          </p:nvPr>
        </p:nvSpPr>
        <p:spPr>
          <a:xfrm>
            <a:off x="22824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1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3C472-C806-4EC6-945C-8ADEDB6FA251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4.jpe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8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10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341000"/>
            <a:ext cx="7772400" cy="163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5000" spc="-1" strike="noStrike">
                <a:solidFill>
                  <a:srgbClr val="000000"/>
                </a:solidFill>
                <a:latin typeface="Calibri"/>
              </a:rPr>
              <a:t>II Miksi Eurooppa</a:t>
            </a:r>
            <a:br>
              <a:rPr sz="5000"/>
            </a:br>
            <a:r>
              <a:rPr b="1" lang="fi-FI" sz="5000" spc="-1" strike="noStrike">
                <a:solidFill>
                  <a:srgbClr val="000000"/>
                </a:solidFill>
                <a:latin typeface="Calibri"/>
              </a:rPr>
              <a:t> yhdentyy?</a:t>
            </a:r>
            <a:endParaRPr b="1" lang="en-US" sz="5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ppikirjan sivut 36-6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4. Ylikansallisia ratkaisu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5. Euroopan unionin syn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6. Euroopan unionin raken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Dian numeron paikkamerkki 4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79930-42B4-48D3-A46D-A99A5A8E06CF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Alatunnisteen paikkamerkki 5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Kuva 7" descr=""/>
          <p:cNvPicPr/>
          <p:nvPr/>
        </p:nvPicPr>
        <p:blipFill>
          <a:blip r:embed="rId1"/>
          <a:stretch/>
        </p:blipFill>
        <p:spPr>
          <a:xfrm>
            <a:off x="2050920" y="3429000"/>
            <a:ext cx="392400" cy="3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125360"/>
            <a:ext cx="8229600" cy="9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800000"/>
                </a:solidFill>
                <a:latin typeface="Calibri"/>
                <a:ea typeface="Calibri"/>
              </a:rPr>
              <a:t>Pariisin sopimus 1951: </a:t>
            </a:r>
            <a:br>
              <a:rPr sz="3600"/>
            </a:br>
            <a:r>
              <a:rPr b="1" lang="fi-FI" sz="3600" spc="-1" strike="noStrike">
                <a:solidFill>
                  <a:srgbClr val="800000"/>
                </a:solidFill>
                <a:latin typeface="Calibri"/>
                <a:ea typeface="Calibri"/>
              </a:rPr>
              <a:t>hiili- ja teräsyhteisön synty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7200" y="2332080"/>
            <a:ext cx="8229600" cy="412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anska, Länsi-Saksa, Alankomaat, Belgia, Luxemburg ja Italia solmiv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hiili- ja terästeollisuuden valvonta </a:t>
            </a:r>
            <a:r>
              <a:rPr b="0" i="1" lang="fi-FI" sz="2800" spc="-1" strike="noStrike">
                <a:solidFill>
                  <a:srgbClr val="000000"/>
                </a:solidFill>
                <a:latin typeface="Calibri"/>
              </a:rPr>
              <a:t>Korkealle viranomaiselle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myöh. Euroopan komissi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hallituksista riippumaton ylikansallinen el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2800" spc="-1" strike="noStrike">
                <a:solidFill>
                  <a:srgbClr val="000000"/>
                </a:solidFill>
                <a:latin typeface="Calibri"/>
              </a:rPr>
              <a:t>ministerineuvosto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yhteistyöelimek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li jo syntyessään osin vanhentunut: uudet energiamuodot korvasivat hiiltä → 1957 </a:t>
            </a:r>
            <a:r>
              <a:rPr b="0" i="1" lang="fi-FI" sz="2800" spc="-1" strike="noStrike">
                <a:solidFill>
                  <a:srgbClr val="000000"/>
                </a:solidFill>
                <a:latin typeface="Calibri"/>
              </a:rPr>
              <a:t>Euratom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Euroopan atomienergiayhteisö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Dian numeron paikkamerkki 4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F13EA-9612-4317-A786-5448057AC421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latunnisteen paikkamerkki 5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Kuva 7" descr=""/>
          <p:cNvPicPr/>
          <p:nvPr/>
        </p:nvPicPr>
        <p:blipFill>
          <a:blip r:embed="rId5"/>
          <a:stretch/>
        </p:blipFill>
        <p:spPr>
          <a:xfrm>
            <a:off x="8028000" y="260280"/>
            <a:ext cx="46368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800000"/>
                </a:solidFill>
                <a:latin typeface="Calibri"/>
                <a:ea typeface="Calibri"/>
              </a:rPr>
              <a:t>Länsi-Euroopan unioni (WEU)</a:t>
            </a:r>
            <a:br>
              <a:rPr sz="3400"/>
            </a:br>
            <a:r>
              <a:rPr b="1" lang="fi-FI" sz="3400" spc="-1" strike="noStrike">
                <a:solidFill>
                  <a:srgbClr val="800000"/>
                </a:solidFill>
                <a:latin typeface="Calibri"/>
                <a:ea typeface="Calibri"/>
              </a:rPr>
              <a:t> 1954 - 2000</a:t>
            </a:r>
            <a:endParaRPr b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1954 perustettiin puolustusyhteistyötä varten </a:t>
            </a:r>
            <a:r>
              <a:rPr b="0" i="1" lang="fi-FI" sz="2800" spc="-1" strike="noStrike">
                <a:solidFill>
                  <a:srgbClr val="000000"/>
                </a:solidFill>
                <a:latin typeface="Calibri"/>
              </a:rPr>
              <a:t>Länsi-Euroopan unioni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Western European Union, WE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illa ei ollut yhteisiä sotajoukko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olustusyhteistyö ei ottanut tul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←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ni Länsi-Euroopan maa kuului Nat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U lakkautettiin ja sulautettiin EU:n muun turvallisuuspolitiikan osaksi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Dian numeron paikkamerkki 4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CDE26-AA39-4116-BBE3-28BD70021176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latunnisteen paikkamerkki 5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Kuva 7" descr=""/>
          <p:cNvPicPr/>
          <p:nvPr/>
        </p:nvPicPr>
        <p:blipFill>
          <a:blip r:embed="rId5"/>
          <a:stretch/>
        </p:blipFill>
        <p:spPr>
          <a:xfrm>
            <a:off x="7885080" y="620640"/>
            <a:ext cx="46368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800" spc="-1" strike="noStrike">
                <a:solidFill>
                  <a:srgbClr val="800000"/>
                </a:solidFill>
                <a:latin typeface="Calibri"/>
              </a:rPr>
              <a:t>Euroopan talousyhteisö (EEC)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7200" y="206028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1957 hiili- ja teräsyhteisömaat solmivat Rooman sopimukset, joilla perustettiin </a:t>
            </a:r>
            <a:r>
              <a:rPr b="0" i="1" lang="fi-FI" sz="2800" spc="-1" strike="noStrike">
                <a:solidFill>
                  <a:srgbClr val="000000"/>
                </a:solidFill>
                <a:latin typeface="Calibri"/>
              </a:rPr>
              <a:t>Euroopan talousyhteisö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= ETY (European Economic Community = </a:t>
            </a:r>
            <a:r>
              <a:rPr b="0" i="1" lang="fi-FI" sz="2800" spc="-1" strike="noStrike">
                <a:solidFill>
                  <a:srgbClr val="000000"/>
                </a:solidFill>
                <a:latin typeface="Calibri"/>
              </a:rPr>
              <a:t>EEC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) ja Euroopan atomienergiayhteisö </a:t>
            </a:r>
            <a:r>
              <a:rPr b="0" i="1" lang="fi-FI" sz="2800" spc="-1" strike="noStrike">
                <a:solidFill>
                  <a:srgbClr val="000000"/>
                </a:solidFill>
                <a:latin typeface="Calibri"/>
              </a:rPr>
              <a:t>Eurat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iden välille tulli- ja vapaakauppaliit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hiili- ja terästeollisuuden vapaakaupan malli laajentui muuhun kauppaan ja tuotant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Dian numeron paikkamerkki 4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34D2A-9A7B-4463-BC9E-D31AE7EF666F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latunnisteen paikkamerkki 5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Kuva 7" descr=""/>
          <p:cNvPicPr/>
          <p:nvPr/>
        </p:nvPicPr>
        <p:blipFill>
          <a:blip r:embed="rId4"/>
          <a:stretch/>
        </p:blipFill>
        <p:spPr>
          <a:xfrm>
            <a:off x="7885080" y="476280"/>
            <a:ext cx="46368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112536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800000"/>
                </a:solidFill>
                <a:latin typeface="Calibri"/>
              </a:rPr>
              <a:t>Tehtäviä: Euroopan yhdentyminen 1940- ja 1950-luvuilla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7200" y="227628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1) Lue Schumanin julistuksen teksti kirjan sivulta 42. Pohdi, miten Schumanin julistuksen periaatteet ovat Euroopassa toteutune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2) Miksi Euroopan yhdentyminen alkoi juuri toisen maailmansodan jälke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3) Mistä syistä Euroopan liittovaltiohanke kaatui 1940-luvulla? Pohdi, miksi liittovaltioajatus on edelleen monille eurooppalaisille vier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Dian numeron paikkamerkki 4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15D9B-6F66-47FE-AB9A-316FBD6F29B4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Alatunnisteen paikkamerkki 5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Kuva 9" descr=""/>
          <p:cNvPicPr/>
          <p:nvPr/>
        </p:nvPicPr>
        <p:blipFill>
          <a:blip r:embed="rId4"/>
          <a:stretch/>
        </p:blipFill>
        <p:spPr>
          <a:xfrm>
            <a:off x="7524720" y="476280"/>
            <a:ext cx="523800" cy="50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 txBox="1"/>
          <p:nvPr/>
        </p:nvSpPr>
        <p:spPr>
          <a:xfrm>
            <a:off x="457200" y="1413000"/>
            <a:ext cx="8229600" cy="521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4) Miksi yhdentyminen alkoi juu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) Länsi-Saksan ja Ranskan välillä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) hiili- ja terästeollisuudess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5) Mikä oli Länsi-Euroopan unioni (WEU), ja miten se onnistui tavoitteissaa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6) Mitkä olivat Rooman sopimusten (1957) keskeiset sisällö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Dian numeron paikkamerkki 3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F8938-9A26-49EA-B025-CCA8017037C9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latunnisteen paikkamerkki 4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Kuva 9" descr=""/>
          <p:cNvPicPr/>
          <p:nvPr/>
        </p:nvPicPr>
        <p:blipFill>
          <a:blip r:embed="rId4"/>
          <a:stretch/>
        </p:blipFill>
        <p:spPr>
          <a:xfrm>
            <a:off x="7885080" y="476280"/>
            <a:ext cx="38088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1125000"/>
            <a:ext cx="7772400" cy="18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5000" spc="-1" strike="noStrike">
                <a:solidFill>
                  <a:srgbClr val="000000"/>
                </a:solidFill>
                <a:latin typeface="Calibri"/>
              </a:rPr>
              <a:t>5 Euroopan unionin synty</a:t>
            </a:r>
            <a:endParaRPr b="1" lang="en-US" sz="5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ppikirjan sivut 47-5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dinsisällö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untitehtävä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ppikirjan tehtävien vastauk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Dian numeron paikkamerkki 5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D7F3A-7939-4ADB-A913-20C94F23A817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Alatunnisteen paikkamerkki 6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Kuva 7" descr=""/>
          <p:cNvPicPr/>
          <p:nvPr/>
        </p:nvPicPr>
        <p:blipFill>
          <a:blip r:embed="rId1"/>
          <a:stretch/>
        </p:blipFill>
        <p:spPr>
          <a:xfrm>
            <a:off x="2987640" y="3933720"/>
            <a:ext cx="318960" cy="358920"/>
          </a:xfrm>
          <a:prstGeom prst="rect">
            <a:avLst/>
          </a:prstGeom>
          <a:ln w="0">
            <a:noFill/>
          </a:ln>
        </p:spPr>
      </p:pic>
      <p:pic>
        <p:nvPicPr>
          <p:cNvPr id="340" name="Kuva 9" descr=""/>
          <p:cNvPicPr/>
          <p:nvPr/>
        </p:nvPicPr>
        <p:blipFill>
          <a:blip r:embed="rId2"/>
          <a:stretch/>
        </p:blipFill>
        <p:spPr>
          <a:xfrm>
            <a:off x="2916360" y="4508640"/>
            <a:ext cx="380880" cy="406440"/>
          </a:xfrm>
          <a:prstGeom prst="rect">
            <a:avLst/>
          </a:prstGeom>
          <a:ln w="0">
            <a:noFill/>
          </a:ln>
        </p:spPr>
      </p:pic>
      <p:pic>
        <p:nvPicPr>
          <p:cNvPr id="341" name="Kuva 5" descr=""/>
          <p:cNvPicPr/>
          <p:nvPr/>
        </p:nvPicPr>
        <p:blipFill>
          <a:blip r:embed="rId3"/>
          <a:stretch/>
        </p:blipFill>
        <p:spPr>
          <a:xfrm>
            <a:off x="1547640" y="4941720"/>
            <a:ext cx="466920" cy="358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800" spc="-1" strike="noStrike">
                <a:solidFill>
                  <a:srgbClr val="800000"/>
                </a:solidFill>
                <a:latin typeface="Calibri"/>
              </a:rPr>
              <a:t>EEC keskittyi talouteen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250560" y="2205000"/>
            <a:ext cx="843588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Wingdings"/>
                <a:ea typeface="Wingdings"/>
              </a:rPr>
              <a:t></a:t>
            </a:r>
            <a:r>
              <a:rPr b="0" lang="fi-FI" sz="26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fi-FI" sz="2600" spc="-1" strike="noStrike">
                <a:solidFill>
                  <a:srgbClr val="000000"/>
                </a:solidFill>
                <a:latin typeface="Calibri"/>
                <a:ea typeface="Calibri"/>
              </a:rPr>
              <a:t>poliittinen yhdentyminen oli hidasta 1957-198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Wingdings"/>
                <a:ea typeface="Wingdings"/>
              </a:rPr>
              <a:t></a:t>
            </a:r>
            <a:r>
              <a:rPr b="0" lang="fi-FI" sz="26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fi-FI" sz="2600" spc="-1" strike="noStrike">
                <a:solidFill>
                  <a:srgbClr val="000000"/>
                </a:solidFill>
                <a:latin typeface="Calibri"/>
                <a:ea typeface="Calibri"/>
              </a:rPr>
              <a:t>maat olivat haluttomia luovuttamaan poliittista valtaa EEC:n ylikansallisille toimijoil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Wingdings"/>
                <a:ea typeface="Wingdings"/>
              </a:rPr>
              <a:t></a:t>
            </a:r>
            <a:r>
              <a:rPr b="0" lang="fi-FI" sz="26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fi-FI" sz="2600" spc="-1" strike="noStrike">
                <a:solidFill>
                  <a:srgbClr val="000000"/>
                </a:solidFill>
                <a:latin typeface="Calibri"/>
                <a:ea typeface="Calibri"/>
              </a:rPr>
              <a:t>Länsi-Euroopan yhteistyö keskittyi taloute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Wingdings"/>
                <a:ea typeface="Wingdings"/>
              </a:rPr>
              <a:t></a:t>
            </a:r>
            <a:r>
              <a:rPr b="0" lang="fi-FI" sz="2600" spc="-1" strike="noStrike">
                <a:solidFill>
                  <a:srgbClr val="000000"/>
                </a:solidFill>
                <a:latin typeface="Calibri"/>
                <a:ea typeface="Calibri"/>
              </a:rPr>
              <a:t>  </a:t>
            </a:r>
            <a:r>
              <a:rPr b="0" lang="fi-FI" sz="2600" spc="-1" strike="noStrike">
                <a:solidFill>
                  <a:srgbClr val="000000"/>
                </a:solidFill>
                <a:latin typeface="Calibri"/>
                <a:ea typeface="Calibri"/>
              </a:rPr>
              <a:t>kansainvälisen kaupan kilpailu koveni 1950-luvulla (USA ja Japani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Wingdings"/>
                <a:ea typeface="Wingdings"/>
              </a:rPr>
              <a:t></a:t>
            </a:r>
            <a:r>
              <a:rPr b="0" lang="fi-FI" sz="1800" spc="-1" strike="noStrike">
                <a:solidFill>
                  <a:srgbClr val="c00000"/>
                </a:solidFill>
                <a:latin typeface="Calibri"/>
                <a:ea typeface="Calibri"/>
              </a:rPr>
              <a:t> </a:t>
            </a:r>
            <a:r>
              <a:rPr b="0" lang="fi-FI" sz="2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fi-FI" sz="2600" spc="-1" strike="noStrike">
                <a:solidFill>
                  <a:srgbClr val="000000"/>
                </a:solidFill>
                <a:latin typeface="Calibri"/>
                <a:ea typeface="Calibri"/>
              </a:rPr>
              <a:t>Länsi-Euroopan vastaus: kaupan ja teollisuuden    rajoitukset pois ja tavarat vapaasti liikkeel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Wingdings"/>
                <a:ea typeface="Wingdings"/>
              </a:rPr>
              <a:t></a:t>
            </a:r>
            <a:r>
              <a:rPr b="0" lang="fi-FI" sz="1800" spc="-1" strike="noStrike">
                <a:solidFill>
                  <a:srgbClr val="c00000"/>
                </a:solidFill>
                <a:latin typeface="Calibri"/>
                <a:ea typeface="Calibri"/>
              </a:rPr>
              <a:t> </a:t>
            </a:r>
            <a:r>
              <a:rPr b="0" lang="fi-FI" sz="26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fi-FI" sz="2600" spc="-1" strike="noStrike">
                <a:solidFill>
                  <a:srgbClr val="000000"/>
                </a:solidFill>
                <a:latin typeface="Calibri"/>
                <a:ea typeface="Calibri"/>
              </a:rPr>
              <a:t>pyrkimys: Euroopan yhteismarkkinat, ei tullirajoj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Dian numeron paikkamerkki 4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4BE14-8075-4CD8-B056-87F7F90AC6C7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latunnisteen paikkamerkki 5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Kuva 7" descr=""/>
          <p:cNvPicPr/>
          <p:nvPr/>
        </p:nvPicPr>
        <p:blipFill>
          <a:blip r:embed="rId2"/>
          <a:stretch/>
        </p:blipFill>
        <p:spPr>
          <a:xfrm>
            <a:off x="7740720" y="404640"/>
            <a:ext cx="46332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800" spc="-1" strike="noStrike">
                <a:solidFill>
                  <a:srgbClr val="800000"/>
                </a:solidFill>
                <a:latin typeface="Calibri"/>
              </a:rPr>
              <a:t>Talousyhteisön rakenteen kehitys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57200" y="206028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Hiili- ja teräsyhteisö, Euratom ja EEC yhdistyivät 1967 sulautumissopimuksella, jolla perustettiin </a:t>
            </a:r>
            <a:r>
              <a:rPr b="0" i="1" lang="fi-FI" sz="2800" spc="-1" strike="noStrike">
                <a:solidFill>
                  <a:srgbClr val="000000"/>
                </a:solidFill>
                <a:latin typeface="Calibri"/>
              </a:rPr>
              <a:t>Euroopan yhteisöt (E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ärjestöjen erilliset toimielimet yhdistyivät kaikille yhteisiks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649"/>
              </a:spcBef>
              <a:buClr>
                <a:srgbClr val="8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komiss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649"/>
              </a:spcBef>
              <a:buClr>
                <a:srgbClr val="8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ministerineuvos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Dian numeron paikkamerkki 4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CF0B9-6AE7-45D3-A3BE-7D7B7E1D62D2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latunnisteen paikkamerkki 5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Kuva 7" descr=""/>
          <p:cNvPicPr/>
          <p:nvPr/>
        </p:nvPicPr>
        <p:blipFill>
          <a:blip r:embed="rId3"/>
          <a:stretch/>
        </p:blipFill>
        <p:spPr>
          <a:xfrm>
            <a:off x="8028000" y="333360"/>
            <a:ext cx="46368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643280" y="0"/>
            <a:ext cx="4321440" cy="177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800" spc="-1" strike="noStrike">
                <a:solidFill>
                  <a:srgbClr val="800000"/>
                </a:solidFill>
                <a:latin typeface="Calibri"/>
              </a:rPr>
              <a:t>Euroopan</a:t>
            </a:r>
            <a:br>
              <a:rPr sz="3800"/>
            </a:br>
            <a:r>
              <a:rPr b="1" lang="fi-FI" sz="3800" spc="-1" strike="noStrike">
                <a:solidFill>
                  <a:srgbClr val="800000"/>
                </a:solidFill>
                <a:latin typeface="Calibri"/>
              </a:rPr>
              <a:t> talousliitot 1970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353" name="Sisällön paikkamerkki 2" descr=""/>
          <p:cNvPicPr/>
          <p:nvPr/>
        </p:nvPicPr>
        <p:blipFill>
          <a:blip r:embed="rId1"/>
          <a:stretch/>
        </p:blipFill>
        <p:spPr>
          <a:xfrm>
            <a:off x="450720" y="2328840"/>
            <a:ext cx="8242560" cy="4309920"/>
          </a:xfrm>
          <a:prstGeom prst="rect">
            <a:avLst/>
          </a:prstGeom>
          <a:ln w="0">
            <a:noFill/>
          </a:ln>
        </p:spPr>
      </p:pic>
      <p:sp>
        <p:nvSpPr>
          <p:cNvPr id="354" name="Tasakylkinen kolmio 4"/>
          <p:cNvSpPr/>
          <p:nvPr/>
        </p:nvSpPr>
        <p:spPr>
          <a:xfrm>
            <a:off x="179280" y="2421000"/>
            <a:ext cx="4000680" cy="3357360"/>
          </a:xfrm>
          <a:prstGeom prst="triangle">
            <a:avLst>
              <a:gd name="adj" fmla="val 4798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ffffff"/>
                </a:solidFill>
                <a:latin typeface="Arial"/>
              </a:rPr>
              <a:t>EE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ff"/>
                </a:solidFill>
                <a:latin typeface="Arial"/>
              </a:rPr>
              <a:t>Länsi-Sak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ff"/>
                </a:solidFill>
                <a:latin typeface="Arial"/>
              </a:rPr>
              <a:t>Ran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ff"/>
                </a:solidFill>
                <a:latin typeface="Arial"/>
              </a:rPr>
              <a:t>Alankoma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ff"/>
                </a:solidFill>
                <a:latin typeface="Arial"/>
              </a:rPr>
              <a:t>Bel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ff"/>
                </a:solidFill>
                <a:latin typeface="Arial"/>
              </a:rPr>
              <a:t>Luxembu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ff"/>
                </a:solidFill>
                <a:latin typeface="Arial"/>
              </a:rPr>
              <a:t>Ital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asakylkinen kolmio 5"/>
          <p:cNvSpPr/>
          <p:nvPr/>
        </p:nvSpPr>
        <p:spPr>
          <a:xfrm>
            <a:off x="4716360" y="2421000"/>
            <a:ext cx="3816360" cy="3456000"/>
          </a:xfrm>
          <a:prstGeom prst="triangle">
            <a:avLst>
              <a:gd name="adj" fmla="val 5061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000" spc="-1" strike="noStrike">
                <a:solidFill>
                  <a:srgbClr val="ffffff"/>
                </a:solidFill>
                <a:latin typeface="Arial"/>
              </a:rPr>
              <a:t>SEV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Neuvostolii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Itä-Sak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Pu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Tšekkoslovak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Unk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Rom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Bulg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Ellipsi 6"/>
          <p:cNvSpPr/>
          <p:nvPr/>
        </p:nvSpPr>
        <p:spPr>
          <a:xfrm>
            <a:off x="2916360" y="1341360"/>
            <a:ext cx="2928960" cy="34290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600" spc="-1" strike="noStrike">
                <a:solidFill>
                  <a:srgbClr val="ffffff"/>
                </a:solidFill>
                <a:latin typeface="Arial"/>
              </a:rPr>
              <a:t>EF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ff"/>
                </a:solidFill>
                <a:latin typeface="Arial"/>
              </a:rPr>
              <a:t>Iso-Britan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ff"/>
                </a:solidFill>
                <a:latin typeface="Arial"/>
              </a:rPr>
              <a:t>Irla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ff"/>
                </a:solidFill>
                <a:latin typeface="Arial"/>
              </a:rPr>
              <a:t>Sveit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ff"/>
                </a:solidFill>
                <a:latin typeface="Arial"/>
              </a:rPr>
              <a:t>Itäval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ff"/>
                </a:solidFill>
                <a:latin typeface="Arial"/>
              </a:rPr>
              <a:t>Tans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ff"/>
                </a:solidFill>
                <a:latin typeface="Arial"/>
              </a:rPr>
              <a:t>Norj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ff"/>
                </a:solidFill>
                <a:latin typeface="Arial"/>
              </a:rPr>
              <a:t>Ruot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ff"/>
                </a:solidFill>
                <a:latin typeface="Arial"/>
              </a:rPr>
              <a:t>Isla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ff"/>
                </a:solidFill>
                <a:latin typeface="Arial"/>
              </a:rPr>
              <a:t>Suo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Dian numeron paikkamerkki 8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A59E6-BF8F-4B22-8051-0B9885A5E565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latunnisteen paikkamerkki 9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Kuva 7" descr=""/>
          <p:cNvPicPr/>
          <p:nvPr/>
        </p:nvPicPr>
        <p:blipFill>
          <a:blip r:embed="rId2"/>
          <a:stretch/>
        </p:blipFill>
        <p:spPr>
          <a:xfrm>
            <a:off x="8244000" y="189000"/>
            <a:ext cx="46332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800000"/>
                </a:solidFill>
                <a:latin typeface="Calibri"/>
              </a:rPr>
              <a:t>Kartta Euroopan talousliitoista vuodelta 1988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1" name="Dian numeron paikkamerkki 4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AC64A-3336-4F21-886A-E437914204B1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latunnisteen paikkamerkki 5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3" name="Kuva 7" descr=""/>
          <p:cNvPicPr/>
          <p:nvPr/>
        </p:nvPicPr>
        <p:blipFill>
          <a:blip r:embed="rId1"/>
          <a:stretch/>
        </p:blipFill>
        <p:spPr>
          <a:xfrm>
            <a:off x="7812000" y="404640"/>
            <a:ext cx="463680" cy="457200"/>
          </a:xfrm>
          <a:prstGeom prst="rect">
            <a:avLst/>
          </a:prstGeom>
          <a:ln w="0">
            <a:noFill/>
          </a:ln>
        </p:spPr>
      </p:pic>
      <p:pic>
        <p:nvPicPr>
          <p:cNvPr id="364" name="Kuva 6" descr="2000px-Europe_1988_svg copy.jpg"/>
          <p:cNvPicPr/>
          <p:nvPr/>
        </p:nvPicPr>
        <p:blipFill>
          <a:blip r:embed="rId2"/>
          <a:stretch/>
        </p:blipFill>
        <p:spPr>
          <a:xfrm>
            <a:off x="539640" y="1731960"/>
            <a:ext cx="6264360" cy="4575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1413000"/>
            <a:ext cx="7772400" cy="155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5000" spc="-1" strike="noStrike">
                <a:solidFill>
                  <a:srgbClr val="000000"/>
                </a:solidFill>
                <a:latin typeface="Calibri"/>
              </a:rPr>
              <a:t>4. Ylikansallisia ratkaisuja</a:t>
            </a:r>
            <a:endParaRPr b="1" lang="en-US" sz="5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ppikirjan sivut 38-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dinsisällö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untitehtävä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ppikirjan tehtävien vastaukset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Dian numeron paikkamerkki 4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E2682-800E-4E86-88DA-673E47D7D6F9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Alatunnisteen paikkamerkki 5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Kuva 7" descr=""/>
          <p:cNvPicPr/>
          <p:nvPr/>
        </p:nvPicPr>
        <p:blipFill>
          <a:blip r:embed="rId1"/>
          <a:stretch/>
        </p:blipFill>
        <p:spPr>
          <a:xfrm>
            <a:off x="3059280" y="4005360"/>
            <a:ext cx="320400" cy="360360"/>
          </a:xfrm>
          <a:prstGeom prst="rect">
            <a:avLst/>
          </a:prstGeom>
          <a:ln w="0">
            <a:noFill/>
          </a:ln>
        </p:spPr>
      </p:pic>
      <p:pic>
        <p:nvPicPr>
          <p:cNvPr id="271" name="Kuva 5" descr=""/>
          <p:cNvPicPr/>
          <p:nvPr/>
        </p:nvPicPr>
        <p:blipFill>
          <a:blip r:embed="rId2"/>
          <a:stretch/>
        </p:blipFill>
        <p:spPr>
          <a:xfrm>
            <a:off x="1116000" y="5013360"/>
            <a:ext cx="466560" cy="442800"/>
          </a:xfrm>
          <a:prstGeom prst="rect">
            <a:avLst/>
          </a:prstGeom>
          <a:ln w="0">
            <a:noFill/>
          </a:ln>
        </p:spPr>
      </p:pic>
      <p:pic>
        <p:nvPicPr>
          <p:cNvPr id="272" name="Kuva 9" descr=""/>
          <p:cNvPicPr/>
          <p:nvPr/>
        </p:nvPicPr>
        <p:blipFill>
          <a:blip r:embed="rId3"/>
          <a:stretch/>
        </p:blipFill>
        <p:spPr>
          <a:xfrm>
            <a:off x="3059280" y="4508640"/>
            <a:ext cx="288720" cy="3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55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800000"/>
                </a:solidFill>
                <a:latin typeface="Calibri"/>
                <a:ea typeface="Calibri"/>
              </a:rPr>
              <a:t>Ranskan ja Iso-Britannian erilaiset Eurooppa-politiikat</a:t>
            </a:r>
            <a:endParaRPr b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änsi-Euroopan yhteistyötä haittasivat 1960-luvulla kiistat Ison-Britannian ja Ranskan välill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anskan presidentti Charles de Gaulle ei halunnut Britanniaa EEC: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kiistan taustalla olivat Britannian läheiset transatlanttiset suhteet Yhdysvaltoih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 Gaulle pelkäsi USA:n vaikutusvallan lisääntymistä Euroopa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Dian numeron paikkamerkki 4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CE109-43F6-4363-85A6-197EA884146F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latunnisteen paikkamerkki 5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Kuva 7" descr=""/>
          <p:cNvPicPr/>
          <p:nvPr/>
        </p:nvPicPr>
        <p:blipFill>
          <a:blip r:embed="rId5"/>
          <a:stretch/>
        </p:blipFill>
        <p:spPr>
          <a:xfrm>
            <a:off x="7885080" y="404640"/>
            <a:ext cx="46368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0" y="0"/>
            <a:ext cx="4114800" cy="9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800" spc="-1" strike="noStrike">
                <a:solidFill>
                  <a:srgbClr val="800000"/>
                </a:solidFill>
                <a:latin typeface="Calibri"/>
              </a:rPr>
              <a:t> </a:t>
            </a:r>
            <a:r>
              <a:rPr b="1" lang="fi-FI" sz="3800" spc="-1" strike="noStrike">
                <a:solidFill>
                  <a:srgbClr val="800000"/>
                </a:solidFill>
                <a:latin typeface="Calibri"/>
              </a:rPr>
              <a:t>EY:n</a:t>
            </a:r>
            <a:br>
              <a:rPr sz="3800"/>
            </a:br>
            <a:r>
              <a:rPr b="1" lang="fi-FI" sz="3800" spc="-1" strike="noStrike">
                <a:solidFill>
                  <a:srgbClr val="800000"/>
                </a:solidFill>
                <a:latin typeface="Calibri"/>
              </a:rPr>
              <a:t> laajentuminen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28584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Wingdings"/>
                <a:ea typeface="Wingdings"/>
              </a:rPr>
              <a:t>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Britannia tuli mukaan de Gaullen valtakauden päätyttyä, Irlanti ja Tanska Britannian vanavedess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Wingdings"/>
                <a:ea typeface="Wingdings"/>
              </a:rPr>
              <a:t>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Kreikka, Portugali ja Espanja oikeistodiktatuureja, demokratisoiduttuaan talousyhteisöö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Ellipsi 4"/>
          <p:cNvSpPr/>
          <p:nvPr/>
        </p:nvSpPr>
        <p:spPr>
          <a:xfrm>
            <a:off x="395280" y="1484280"/>
            <a:ext cx="3000240" cy="18018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19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Iso-Britan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Irla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Tans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Kyltti 5"/>
          <p:cNvSpPr/>
          <p:nvPr/>
        </p:nvSpPr>
        <p:spPr>
          <a:xfrm>
            <a:off x="3708360" y="1773360"/>
            <a:ext cx="914400" cy="857160"/>
          </a:xfrm>
          <a:custGeom>
            <a:avLst/>
            <a:gdLst>
              <a:gd name="textAreaLeft" fmla="*/ 100800 w 914400"/>
              <a:gd name="textAreaRight" fmla="*/ 813600 w 914400"/>
              <a:gd name="textAreaTop" fmla="*/ 100800 h 857160"/>
              <a:gd name="textAreaBottom" fmla="*/ 756360 h 857160"/>
            </a:gdLst>
            <a:ahLst/>
            <a:rect l="textAreaLeft" t="textAreaTop" r="textAreaRight" b="textAreaBottom"/>
            <a:pathLst>
              <a:path w="23042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9442" y="21600"/>
                </a:lnTo>
                <a:arcTo wR="3600" hR="3600" stAng="10800000" swAng="5400000"/>
                <a:lnTo>
                  <a:pt x="23042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ffffff"/>
                </a:solidFill>
                <a:latin typeface="Arial"/>
              </a:rPr>
              <a:t>E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Ellipsi 6"/>
          <p:cNvSpPr/>
          <p:nvPr/>
        </p:nvSpPr>
        <p:spPr>
          <a:xfrm>
            <a:off x="5076720" y="1700280"/>
            <a:ext cx="2786040" cy="15159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19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Espan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Portug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Ellipsi 7"/>
          <p:cNvSpPr/>
          <p:nvPr/>
        </p:nvSpPr>
        <p:spPr>
          <a:xfrm>
            <a:off x="2771640" y="2924280"/>
            <a:ext cx="2928960" cy="9363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19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Kreik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Dian numeron paikkamerkki 9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A5C9A-869A-48C2-80DA-07551FA04E69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latunnisteen paikkamerkki 10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8" name="Kuva 7" descr=""/>
          <p:cNvPicPr/>
          <p:nvPr/>
        </p:nvPicPr>
        <p:blipFill>
          <a:blip r:embed="rId1"/>
          <a:stretch/>
        </p:blipFill>
        <p:spPr>
          <a:xfrm>
            <a:off x="8172360" y="260280"/>
            <a:ext cx="46368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800" spc="-1" strike="noStrike">
                <a:solidFill>
                  <a:srgbClr val="800000"/>
                </a:solidFill>
                <a:latin typeface="Calibri"/>
              </a:rPr>
              <a:t>Muuttuva Eurooppa – mitä teki EY?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457200" y="191628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Wingdings"/>
                <a:ea typeface="Wingdings"/>
              </a:rPr>
              <a:t>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1980-luvulla yhteisömaat alkoivat suunnitella entistä tiiviimpää yhteistyöt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tausta: etenevä globalisaatio ja Euroopan tarve vastata tähän; kylmän sodan loppuminen 1989-91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Wingdings"/>
                <a:ea typeface="Wingdings"/>
              </a:rPr>
              <a:t>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1985 ”Valkoinen kirja”: pyrkimys Euroopan sisämarkkinoihin ja yhteiseen rahapolitiikk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Wingdings"/>
                <a:ea typeface="Wingdings"/>
              </a:rPr>
              <a:t>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1989 hallitusten välinen konferenssi: suunnitelma Euroopan unionista ja talous- ja rahaliito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Dian numeron paikkamerkki 4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4CD30-2926-4EB9-8F16-3926A9456175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latunnisteen paikkamerkki 5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Kuva 7" descr=""/>
          <p:cNvPicPr/>
          <p:nvPr/>
        </p:nvPicPr>
        <p:blipFill>
          <a:blip r:embed="rId1"/>
          <a:stretch/>
        </p:blipFill>
        <p:spPr>
          <a:xfrm>
            <a:off x="7885080" y="260280"/>
            <a:ext cx="46368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800000"/>
                </a:solidFill>
                <a:latin typeface="Calibri"/>
                <a:ea typeface="Calibri"/>
              </a:rPr>
              <a:t>Maastrichtin sopimus 1992: Euroopan unionin synty</a:t>
            </a:r>
            <a:endParaRPr b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astrichtin sopimuksella perustettiin Euroopan un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aloudellinen integraatio laajeni poliittiseksi: maat luovuttivat valtaa unionin hyväk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yrkimys seuraavii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sisämarkkinat, talous- ja rahaliitto, yhteinen ulko- ja turvallisuuspolitiikka, yhteistyö oikeus- ja sisäasiois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ustettiin unionin kansalaisu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Dian numeron paikkamerkki 4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E7662-9706-47FD-ADB2-4593C3FA558A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Alatunnisteen paikkamerkki 5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Kuva 7" descr=""/>
          <p:cNvPicPr/>
          <p:nvPr/>
        </p:nvPicPr>
        <p:blipFill>
          <a:blip r:embed="rId5"/>
          <a:stretch/>
        </p:blipFill>
        <p:spPr>
          <a:xfrm>
            <a:off x="7956720" y="549360"/>
            <a:ext cx="46332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12536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800" spc="-1" strike="noStrike">
                <a:solidFill>
                  <a:srgbClr val="800000"/>
                </a:solidFill>
                <a:latin typeface="Calibri"/>
              </a:rPr>
              <a:t>Unioni laajentui 1990- ja 2000-luvulla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457200" y="184428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1) Suomi, Ruotsi, Itävalta 19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kylmän sodan aikaiset puolueettomat ma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2) Viro, Latvia, Liettua, Puola, Tšekki, Slovakia, Unkari, Slovenia, Malta ja Kypros 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Neuvostoliittoon (Baltian maat) ja sen valtapiiriin kylmässä sodassa kuuluneet maat ja Välimeren saarivaltio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3) Romania ja Bulgaria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entisen itäblokin mai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Dian numeron paikkamerkki 4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64D96-3956-44A6-A4D7-DBF8F0687B0C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Alatunnisteen paikkamerkki 5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Kuva 7" descr=""/>
          <p:cNvPicPr/>
          <p:nvPr/>
        </p:nvPicPr>
        <p:blipFill>
          <a:blip r:embed="rId1"/>
          <a:stretch/>
        </p:blipFill>
        <p:spPr>
          <a:xfrm>
            <a:off x="8028000" y="333360"/>
            <a:ext cx="46368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87280" y="1125000"/>
            <a:ext cx="7499520" cy="7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800" spc="-1" strike="noStrike">
                <a:solidFill>
                  <a:srgbClr val="800000"/>
                </a:solidFill>
                <a:latin typeface="Calibri"/>
              </a:rPr>
              <a:t>EU:n laajentuminen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395" name="Sisällön paikkamerkki 2" descr=""/>
          <p:cNvPicPr/>
          <p:nvPr/>
        </p:nvPicPr>
        <p:blipFill>
          <a:blip r:embed="rId1"/>
          <a:stretch/>
        </p:blipFill>
        <p:spPr>
          <a:xfrm>
            <a:off x="450720" y="2328840"/>
            <a:ext cx="8242560" cy="4309920"/>
          </a:xfrm>
          <a:prstGeom prst="rect">
            <a:avLst/>
          </a:prstGeom>
          <a:ln w="0">
            <a:noFill/>
          </a:ln>
        </p:spPr>
      </p:pic>
      <p:sp>
        <p:nvSpPr>
          <p:cNvPr id="396" name="Ellipsi 3"/>
          <p:cNvSpPr/>
          <p:nvPr/>
        </p:nvSpPr>
        <p:spPr>
          <a:xfrm>
            <a:off x="826920" y="1989000"/>
            <a:ext cx="2343240" cy="1700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Suo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Ruot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Itäva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Ellipsi 4"/>
          <p:cNvSpPr/>
          <p:nvPr/>
        </p:nvSpPr>
        <p:spPr>
          <a:xfrm>
            <a:off x="5724360" y="1484280"/>
            <a:ext cx="2428920" cy="381636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ff"/>
                </a:solidFill>
                <a:latin typeface="Arial"/>
              </a:rPr>
              <a:t>20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ff"/>
                </a:solidFill>
                <a:latin typeface="Arial"/>
              </a:rPr>
              <a:t>Vi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ff"/>
                </a:solidFill>
                <a:latin typeface="Arial"/>
              </a:rPr>
              <a:t>Latv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ff"/>
                </a:solidFill>
                <a:latin typeface="Arial"/>
              </a:rPr>
              <a:t>Liettu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ff"/>
                </a:solidFill>
                <a:latin typeface="Arial"/>
              </a:rPr>
              <a:t>Puo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ff"/>
                </a:solidFill>
                <a:latin typeface="Arial"/>
              </a:rPr>
              <a:t>Tšekk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ff"/>
                </a:solidFill>
                <a:latin typeface="Arial"/>
              </a:rPr>
              <a:t>Slovak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ff"/>
                </a:solidFill>
                <a:latin typeface="Arial"/>
              </a:rPr>
              <a:t>Unka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ff"/>
                </a:solidFill>
                <a:latin typeface="Arial"/>
              </a:rPr>
              <a:t>Slove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ff"/>
                </a:solidFill>
                <a:latin typeface="Arial"/>
              </a:rPr>
              <a:t>Mal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ff"/>
                </a:solidFill>
                <a:latin typeface="Arial"/>
              </a:rPr>
              <a:t>Kypr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5-sakarainen tähti 5"/>
          <p:cNvSpPr/>
          <p:nvPr/>
        </p:nvSpPr>
        <p:spPr>
          <a:xfrm>
            <a:off x="3348000" y="2133720"/>
            <a:ext cx="2071800" cy="1857240"/>
          </a:xfrm>
          <a:prstGeom prst="pi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ff"/>
                </a:solidFill>
                <a:latin typeface="Arial"/>
              </a:rPr>
              <a:t>E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Ellipsi 6"/>
          <p:cNvSpPr/>
          <p:nvPr/>
        </p:nvSpPr>
        <p:spPr>
          <a:xfrm>
            <a:off x="1908000" y="4365720"/>
            <a:ext cx="3214800" cy="114300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Rom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ffffff"/>
                </a:solidFill>
                <a:latin typeface="Arial"/>
              </a:rPr>
              <a:t>Bulg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Dian numeron paikkamerkki 8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4FF9E-E3A2-4567-82E7-986B4ADEAE87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Alatunnisteen paikkamerkki 9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" name="Kuva 7" descr=""/>
          <p:cNvPicPr/>
          <p:nvPr/>
        </p:nvPicPr>
        <p:blipFill>
          <a:blip r:embed="rId2"/>
          <a:stretch/>
        </p:blipFill>
        <p:spPr>
          <a:xfrm>
            <a:off x="7740720" y="404640"/>
            <a:ext cx="46332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0040" y="764640"/>
            <a:ext cx="767232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800000"/>
                </a:solidFill>
                <a:latin typeface="Calibri"/>
              </a:rPr>
              <a:t>Unionin yhteistyö syventyi 1990- ja 2000-luvulla:</a:t>
            </a:r>
            <a:endParaRPr b="1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3657240" y="1143000"/>
            <a:ext cx="511164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isämarkkinat 199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chengenin sopimus käyttöön 199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alous- ja rahaliitto EMU 19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uro käyttöön 2002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50560" y="4437000"/>
            <a:ext cx="3025800" cy="16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alibri"/>
              </a:rPr>
              <a:t>Unionin yhteinen valuutta euro otettiin käyttöön 12 jäsenmaassa vuonna 2002. Sittemmin euroalue on kasvanut 17 EU-maan laajuiseks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Dian numeron paikkamerkki 5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58222-A6CD-4BA8-A106-533BD22A8E74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Alatunnisteen paikkamerkki 6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8" name="Picture 5" descr="C:\Users\Kaisa\AppData\Local\Temp\shutterstock_77522515.jpg"/>
          <p:cNvPicPr/>
          <p:nvPr/>
        </p:nvPicPr>
        <p:blipFill>
          <a:blip r:embed="rId6"/>
          <a:stretch/>
        </p:blipFill>
        <p:spPr>
          <a:xfrm>
            <a:off x="250920" y="2276640"/>
            <a:ext cx="3047760" cy="2124000"/>
          </a:xfrm>
          <a:prstGeom prst="rect">
            <a:avLst/>
          </a:prstGeom>
          <a:ln w="0">
            <a:noFill/>
          </a:ln>
        </p:spPr>
      </p:pic>
      <p:pic>
        <p:nvPicPr>
          <p:cNvPr id="409" name="Kuva 7" descr=""/>
          <p:cNvPicPr/>
          <p:nvPr/>
        </p:nvPicPr>
        <p:blipFill>
          <a:blip r:embed="rId7"/>
          <a:stretch/>
        </p:blipFill>
        <p:spPr>
          <a:xfrm>
            <a:off x="7812000" y="333360"/>
            <a:ext cx="46368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1912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800000"/>
                </a:solidFill>
                <a:latin typeface="Calibri"/>
              </a:rPr>
              <a:t>Tehtäviä: Talousliitot Euroopassa kylmän</a:t>
            </a:r>
            <a:br>
              <a:rPr sz="3200"/>
            </a:br>
            <a:r>
              <a:rPr b="1" lang="fi-FI" sz="3200" spc="-1" strike="noStrike">
                <a:solidFill>
                  <a:srgbClr val="800000"/>
                </a:solidFill>
                <a:latin typeface="Calibri"/>
              </a:rPr>
              <a:t> sodan aikana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457200" y="227628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arkastele diaa, jossa on lueteltu Euroopan talousliitot vuonna 1970. Selvitä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1) Mitä tarkoittavat lyhenteet EEC, EFTA ja SEV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2) Mitä järjestöjä olivat EFTA ja SEV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3) Miten kylmän sodan jakolinjat Euroopassa vaikuttivat maiden sijoittumiseen eri liittoihi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4) Mitkä Euroopan maat olivat talousliittojen ulkopuolella? Miks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Dian numeron paikkamerkki 4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C3F63-8BF3-4EC6-9C11-A395EE48DAF5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latunnisteen paikkamerkki 5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Kuva 9" descr=""/>
          <p:cNvPicPr/>
          <p:nvPr/>
        </p:nvPicPr>
        <p:blipFill>
          <a:blip r:embed="rId1"/>
          <a:stretch/>
        </p:blipFill>
        <p:spPr>
          <a:xfrm>
            <a:off x="7812000" y="476280"/>
            <a:ext cx="525600" cy="5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1125000"/>
            <a:ext cx="8229600" cy="7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800000"/>
                </a:solidFill>
                <a:latin typeface="Calibri"/>
              </a:rPr>
              <a:t>Tehtäviä: EEC:stä laajentuvaan unioniin</a:t>
            </a:r>
            <a:endParaRPr b="1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457200" y="1989000"/>
            <a:ext cx="8229600" cy="46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1) Miksi poliittinen yhteistyö EEC-maiden välillä kehittyi hitaasti 1950-luvulta 1980-luvul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2) Miksi yhteistyö vauhdittui 1980-luvull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3) Miksi Maastrichtin sopimusta voi pitää käännekohtana Euroopan yhdentymisen historiass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4) Selvitä EY:n ja EU:n laajentumisvaiheet ja laajentumisten tausta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Dian numeron paikkamerkki 4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278B5-DDED-451D-BE4C-70D24F14523D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latunnisteen paikkamerkki 5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Kuva 9" descr=""/>
          <p:cNvPicPr/>
          <p:nvPr/>
        </p:nvPicPr>
        <p:blipFill>
          <a:blip r:embed="rId1"/>
          <a:stretch/>
        </p:blipFill>
        <p:spPr>
          <a:xfrm>
            <a:off x="7596360" y="476280"/>
            <a:ext cx="525240" cy="57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1484280"/>
            <a:ext cx="7772400" cy="148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5000" spc="-1" strike="noStrike">
                <a:solidFill>
                  <a:srgbClr val="000000"/>
                </a:solidFill>
                <a:latin typeface="Calibri"/>
              </a:rPr>
              <a:t>6 Euroopan unionin rakenne</a:t>
            </a:r>
            <a:endParaRPr b="1" lang="en-US" sz="5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1371600" y="3573360"/>
            <a:ext cx="6400800" cy="264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ppikirjan sivut 54-6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dinsisällö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untitehtävä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ppikirjan tehtävien vastauk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Dian numeron paikkamerkki 5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36B2E-6044-48FF-881D-D5AE1CAE3AC6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latunnisteen paikkamerkki 6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Kuva 7" descr=""/>
          <p:cNvPicPr/>
          <p:nvPr/>
        </p:nvPicPr>
        <p:blipFill>
          <a:blip r:embed="rId1"/>
          <a:stretch/>
        </p:blipFill>
        <p:spPr>
          <a:xfrm>
            <a:off x="2987640" y="4149720"/>
            <a:ext cx="360360" cy="358920"/>
          </a:xfrm>
          <a:prstGeom prst="rect">
            <a:avLst/>
          </a:prstGeom>
          <a:ln w="0">
            <a:noFill/>
          </a:ln>
        </p:spPr>
      </p:pic>
      <p:pic>
        <p:nvPicPr>
          <p:cNvPr id="425" name="Kuva 9" descr=""/>
          <p:cNvPicPr/>
          <p:nvPr/>
        </p:nvPicPr>
        <p:blipFill>
          <a:blip r:embed="rId2"/>
          <a:stretch/>
        </p:blipFill>
        <p:spPr>
          <a:xfrm>
            <a:off x="2916360" y="4724280"/>
            <a:ext cx="380880" cy="360360"/>
          </a:xfrm>
          <a:prstGeom prst="rect">
            <a:avLst/>
          </a:prstGeom>
          <a:ln w="0">
            <a:noFill/>
          </a:ln>
        </p:spPr>
      </p:pic>
      <p:pic>
        <p:nvPicPr>
          <p:cNvPr id="426" name="Kuva 5" descr=""/>
          <p:cNvPicPr/>
          <p:nvPr/>
        </p:nvPicPr>
        <p:blipFill>
          <a:blip r:embed="rId3"/>
          <a:stretch/>
        </p:blipFill>
        <p:spPr>
          <a:xfrm>
            <a:off x="1619280" y="5229360"/>
            <a:ext cx="360360" cy="3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800"/>
            </a:br>
            <a:r>
              <a:rPr b="1" lang="fi-FI" sz="3800" spc="-1" strike="noStrike">
                <a:solidFill>
                  <a:srgbClr val="800000"/>
                </a:solidFill>
                <a:latin typeface="Calibri"/>
              </a:rPr>
              <a:t>Saksan ja Ranskan vaikea historia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206028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aksan ja Ranskan historia oli vuosisatoja vastakkainasettelua ja konflikte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anska halusi pitää Saksan poliittisesti hajanaisena ja heikkona vielä 1800-luvu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aksan yhdistyminen 1871 muutti tilanteen: Saksasta tuli suurval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anska menetti 1871 Saksalle tärkeän malmialueen Elsass-Lothringenin → Saksan teollinen ja taloudellinen nousu alko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Dian numeron paikkamerkki 4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4BF03-0555-4EB1-AC11-4B3568BA7209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latunnisteen paikkamerkki 5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Kuva 7" descr=""/>
          <p:cNvPicPr/>
          <p:nvPr/>
        </p:nvPicPr>
        <p:blipFill>
          <a:blip r:embed="rId1"/>
          <a:stretch/>
        </p:blipFill>
        <p:spPr>
          <a:xfrm>
            <a:off x="8172360" y="333360"/>
            <a:ext cx="46368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800" spc="-1" strike="noStrike">
                <a:solidFill>
                  <a:srgbClr val="800000"/>
                </a:solidFill>
                <a:latin typeface="Calibri"/>
              </a:rPr>
              <a:t>EU – valta unionilla ja valtioilla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U on ainutlaatuinen ilmiö historiassa: jäsenmaat luovuttaneet vapaaehtoisesti osan suvereniteetistaan kansainväliselle toimija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U ei ole nykyisellään liittovaltio, vaan valtioliit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äätösvaltaa unionissa käyttävät EU:n toimielimet ja jäsenvaltiot yhdess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Dian numeron paikkamerkki 4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F118B-CAA4-4FE8-B0F2-2C73C52089FD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Alatunnisteen paikkamerkki 5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Kuva 7" descr=""/>
          <p:cNvPicPr/>
          <p:nvPr/>
        </p:nvPicPr>
        <p:blipFill>
          <a:blip r:embed="rId4"/>
          <a:stretch/>
        </p:blipFill>
        <p:spPr>
          <a:xfrm>
            <a:off x="8028000" y="404640"/>
            <a:ext cx="46368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800" spc="-1" strike="noStrike">
                <a:solidFill>
                  <a:srgbClr val="800000"/>
                </a:solidFill>
                <a:latin typeface="Calibri"/>
              </a:rPr>
              <a:t>Politiikkalohkot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33" name=""/>
          <p:cNvSpPr txBox="1"/>
          <p:nvPr/>
        </p:nvSpPr>
        <p:spPr>
          <a:xfrm>
            <a:off x="457200" y="1989000"/>
            <a:ext cx="8229600" cy="46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istä asioista päättää EU ja mistä jäsenvaltio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ilannetta on yritetty selkeyttää jakamalla asiat politiikkalohkoih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olitiikkalohkot luotiin Lissabonin sopimuksessa 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in ja jäsenmaiden mahdollisuudet päättää asioista vaihtelevat eri lohkoi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Dian numeron paikkamerkki 4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92829-D248-4947-AC85-048118A47774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Alatunnisteen paikkamerkki 5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6" name="Kuva 7" descr=""/>
          <p:cNvPicPr/>
          <p:nvPr/>
        </p:nvPicPr>
        <p:blipFill>
          <a:blip r:embed="rId5"/>
          <a:stretch/>
        </p:blipFill>
        <p:spPr>
          <a:xfrm>
            <a:off x="7956720" y="765000"/>
            <a:ext cx="46332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2050560" y="990720"/>
            <a:ext cx="663588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800" spc="-1" strike="noStrike">
                <a:solidFill>
                  <a:srgbClr val="800000"/>
                </a:solidFill>
                <a:latin typeface="Calibri"/>
              </a:rPr>
              <a:t>Politiikkalohkot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438" name="Sisällön paikkamerkki 5" descr=""/>
          <p:cNvPicPr/>
          <p:nvPr/>
        </p:nvPicPr>
        <p:blipFill>
          <a:blip r:embed="rId1"/>
          <a:stretch/>
        </p:blipFill>
        <p:spPr>
          <a:xfrm>
            <a:off x="684360" y="1700280"/>
            <a:ext cx="7816680" cy="4640040"/>
          </a:xfrm>
          <a:prstGeom prst="rect">
            <a:avLst/>
          </a:prstGeom>
          <a:ln w="0">
            <a:noFill/>
          </a:ln>
        </p:spPr>
      </p:pic>
      <p:sp>
        <p:nvSpPr>
          <p:cNvPr id="439" name="Dian numeron paikkamerkki 4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3577C-F159-4175-8081-1D36C4AB0148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latunnisteen paikkamerkki 5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1" name="Kuva 7" descr=""/>
          <p:cNvPicPr/>
          <p:nvPr/>
        </p:nvPicPr>
        <p:blipFill>
          <a:blip r:embed="rId2"/>
          <a:stretch/>
        </p:blipFill>
        <p:spPr>
          <a:xfrm>
            <a:off x="7956720" y="476280"/>
            <a:ext cx="46332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332000" y="1197000"/>
            <a:ext cx="735480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800" spc="-1" strike="noStrike">
                <a:solidFill>
                  <a:srgbClr val="800000"/>
                </a:solidFill>
                <a:latin typeface="Calibri"/>
              </a:rPr>
              <a:t>Politiikkalohko 1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3" name=""/>
          <p:cNvSpPr txBox="1"/>
          <p:nvPr/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illa </a:t>
            </a:r>
            <a:r>
              <a:rPr b="0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yksinomainen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toimivalta = EU päättä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ulliliit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kilpailusäännöt sisämarkkinoi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uromaiden rahapolitiik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hteinen kauppapolitiik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Dian numeron paikkamerkki 4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C4018-8873-41C2-966F-35FFAB2340E7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Alatunnisteen paikkamerkki 5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Kuva 7" descr=""/>
          <p:cNvPicPr/>
          <p:nvPr/>
        </p:nvPicPr>
        <p:blipFill>
          <a:blip r:embed="rId6"/>
          <a:stretch/>
        </p:blipFill>
        <p:spPr>
          <a:xfrm>
            <a:off x="7812000" y="333360"/>
            <a:ext cx="46368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332000" y="981000"/>
            <a:ext cx="7354800" cy="9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800" spc="-1" strike="noStrike">
                <a:solidFill>
                  <a:srgbClr val="800000"/>
                </a:solidFill>
                <a:latin typeface="Calibri"/>
              </a:rPr>
              <a:t>Politiikkalohko 2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48" name=""/>
          <p:cNvSpPr txBox="1"/>
          <p:nvPr/>
        </p:nvSpPr>
        <p:spPr>
          <a:xfrm>
            <a:off x="457200" y="177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illa ja jäsenmailla </a:t>
            </a:r>
            <a:r>
              <a:rPr b="0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jaettu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toimival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= jäsenmaat eivät saa toimia itsenäisesti, jos unioni hoitaa asia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isämarkkinat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atalous ja kalas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ympärist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kuluttajansuo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liike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energ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yhteinen turvallisuus- ja oikeudellinen 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Dian numeron paikkamerkki 4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4CF44-25CF-45EF-B7F5-DE491326AEC5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Alatunnisteen paikkamerkki 5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Kuva 7" descr=""/>
          <p:cNvPicPr/>
          <p:nvPr/>
        </p:nvPicPr>
        <p:blipFill>
          <a:blip r:embed="rId8"/>
          <a:stretch/>
        </p:blipFill>
        <p:spPr>
          <a:xfrm>
            <a:off x="7956720" y="404640"/>
            <a:ext cx="46332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 txBox="1"/>
          <p:nvPr/>
        </p:nvSpPr>
        <p:spPr>
          <a:xfrm>
            <a:off x="457200" y="1341000"/>
            <a:ext cx="40384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in toiminta </a:t>
            </a:r>
            <a:r>
              <a:rPr b="0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ei saa estää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jäsenmaiden toimia aloil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utkimus, teknologia ja avaru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kehitysyhteistyö, humanitaarinen ap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 txBox="1"/>
          <p:nvPr/>
        </p:nvSpPr>
        <p:spPr>
          <a:xfrm>
            <a:off x="4648320" y="1341000"/>
            <a:ext cx="403848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i </a:t>
            </a:r>
            <a:r>
              <a:rPr b="0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koordinoi tai avustaa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, jos asia ei muuten hoidoss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alouspolitiikka, työllisyys ja sosiaalipolitiik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hteinen ulko-, turvallisuus- ja puolustuspolitiik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Dian numeron paikkamerkki 4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7406F-08BA-48B6-84AE-97A13AB3E7CB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latunnisteen paikkamerkki 5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Kuva 7" descr=""/>
          <p:cNvPicPr/>
          <p:nvPr/>
        </p:nvPicPr>
        <p:blipFill>
          <a:blip r:embed="rId5"/>
          <a:stretch/>
        </p:blipFill>
        <p:spPr>
          <a:xfrm>
            <a:off x="7667640" y="404640"/>
            <a:ext cx="46368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800" spc="-1" strike="noStrike">
                <a:solidFill>
                  <a:srgbClr val="800000"/>
                </a:solidFill>
                <a:latin typeface="Calibri"/>
              </a:rPr>
              <a:t>Politiikkalohko 3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457200" y="206028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illa jäsenmaita </a:t>
            </a:r>
            <a:r>
              <a:rPr b="0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avustava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toimival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= unioni voi tukea ja avustaa jäsenmaita aloill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erveydenho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eollisu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kulttuu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tkai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koulutus, nuoriso ja urheil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iviiliväestön turvaaminen katastrofeil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hallintoyhteisty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Dian numeron paikkamerkki 4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DF407-7BF4-4779-8CAD-C73E6AC5DEC0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latunnisteen paikkamerkki 5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Kuva 7" descr=""/>
          <p:cNvPicPr/>
          <p:nvPr/>
        </p:nvPicPr>
        <p:blipFill>
          <a:blip r:embed="rId8"/>
          <a:stretch/>
        </p:blipFill>
        <p:spPr>
          <a:xfrm>
            <a:off x="7812000" y="692280"/>
            <a:ext cx="46368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826560" y="1125000"/>
            <a:ext cx="7859880" cy="7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800" spc="-1" strike="noStrike">
                <a:solidFill>
                  <a:srgbClr val="800000"/>
                </a:solidFill>
                <a:latin typeface="Calibri"/>
              </a:rPr>
              <a:t>Euroopan sisämarkkinat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63" name=""/>
          <p:cNvSpPr txBox="1"/>
          <p:nvPr/>
        </p:nvSpPr>
        <p:spPr>
          <a:xfrm>
            <a:off x="457200" y="206028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1968 EEC-maiden väliltä poistuivat tullit: yhteismarkkinat syntyivä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1986 tavoite: Euroopan sisämarkkin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1993 sisämarkkinat toteutuiva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vapaan kilpailun esteet poistett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ihmisten, tavaroiden, palvelujen ja pääomien vapaa liikkuminen EU:n alueel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kilpailua vääristävien tai rajoittavien sopimusten teko on kiellet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Dian numeron paikkamerkki 4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3A846-458A-483D-8CC0-74C5C5842E0B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latunnisteen paikkamerkki 5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6" name="Kuva 7" descr=""/>
          <p:cNvPicPr/>
          <p:nvPr/>
        </p:nvPicPr>
        <p:blipFill>
          <a:blip r:embed="rId4"/>
          <a:stretch/>
        </p:blipFill>
        <p:spPr>
          <a:xfrm>
            <a:off x="7740720" y="476280"/>
            <a:ext cx="46332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yritys ei saa päästä määräävään kilpailuasemaan = monopolien kiel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poikkeus esim. Pohjoismaiden alkoholimonopol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suuret yritysfuusiot hyväksyttävä komissios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kansallisten tuotanto- ja vientitukien kiel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Lucida Grande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ongelmia esim. Suomessa: syrjäinen sijainti ja pitkät kuljetusmatka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sisämarkkinoita perustellaan kuluttajien ja yrittäjien hyödyllä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uorakulmio 3"/>
          <p:cNvSpPr/>
          <p:nvPr/>
        </p:nvSpPr>
        <p:spPr>
          <a:xfrm>
            <a:off x="1071720" y="5072040"/>
            <a:ext cx="6740280" cy="5000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Pohdi sisämarkkinoita puoltavia ja vastustavia  argumenttej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Dian numeron paikkamerkki 5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7605E-81F1-4F09-A014-087F3F7EF0E8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Alatunnisteen paikkamerkki 6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Kuva 7" descr=""/>
          <p:cNvPicPr/>
          <p:nvPr/>
        </p:nvPicPr>
        <p:blipFill>
          <a:blip r:embed="rId1"/>
          <a:stretch/>
        </p:blipFill>
        <p:spPr>
          <a:xfrm>
            <a:off x="7956720" y="333360"/>
            <a:ext cx="46332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1125360"/>
            <a:ext cx="8229600" cy="62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800" spc="-1" strike="noStrike">
                <a:solidFill>
                  <a:srgbClr val="800000"/>
                </a:solidFill>
                <a:latin typeface="Calibri"/>
              </a:rPr>
              <a:t>EMU ja euro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3" name=""/>
          <p:cNvSpPr txBox="1"/>
          <p:nvPr/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MU = Euroopan talous- ja rahaliitto (Economic and Monetary Un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kaikki unionin jäsenvaltiot kuuluvat EMU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sa jäsenmaista kuuluu EMUn 3. vaiheeseen, jossa maan valuuttana on euro (=euromaa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uromaiden rahapolitiikka on yhteistä = Euroopan keskuspankki (EKP) päättä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Dian numeron paikkamerkki 4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D54DD-9383-4586-B150-8FC0CB989E92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latunnisteen paikkamerkki 5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Kuva 7" descr=""/>
          <p:cNvPicPr/>
          <p:nvPr/>
        </p:nvPicPr>
        <p:blipFill>
          <a:blip r:embed="rId5"/>
          <a:stretch/>
        </p:blipFill>
        <p:spPr>
          <a:xfrm>
            <a:off x="7956720" y="549360"/>
            <a:ext cx="46332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 maailmansota (1914-1918) syttyi osin Saksan ja Ranskan huonoista suhte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odan jälkeen Saksa luovutti Ranskalle Elsass-Lothringenin ja maksoi suuria sotakorvauk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aksan talous romahti 1920-luvu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→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aksalaiset katkeroituivat: Hitlerin valtaannousun ja II maailmansodan yksi taustatekij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I maailmansodassa (1939-1945) Saksa miehitti Ranskaa 1940-44 ja vetäytyi USA:n ja Ison-Britannian lyömänä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Dian numeron paikkamerkki 3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40ABA-15C6-4D0B-9DE6-970CC3959C11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latunnisteen paikkamerkki 4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Kuva 7" descr=""/>
          <p:cNvPicPr/>
          <p:nvPr/>
        </p:nvPicPr>
        <p:blipFill>
          <a:blip r:embed="rId4"/>
          <a:stretch/>
        </p:blipFill>
        <p:spPr>
          <a:xfrm>
            <a:off x="8172360" y="620640"/>
            <a:ext cx="46368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800" spc="-1" strike="noStrike">
                <a:solidFill>
                  <a:srgbClr val="800000"/>
                </a:solidFill>
                <a:latin typeface="Calibri"/>
              </a:rPr>
              <a:t>Euro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457200" y="1989000"/>
            <a:ext cx="8229600" cy="46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li 300 miljoonan kuluttajan yhteinen ra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A:n dollarin jälkeen maailman tärkein valuut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käytössä 17 EU-maassa ja kuudessa unionin ulkopuolisessa maassa (20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uroopan keskuspankki ja kansalliset keskuspankit hallinnoivat euroa yhdessä (EKPJ = Euroopan keskuspankkijärjestelmä)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Dian numeron paikkamerkki 4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A4182-5692-4EB2-A4AF-6488F2B2D6C1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latunnisteen paikkamerkki 5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Kuva 7" descr=""/>
          <p:cNvPicPr/>
          <p:nvPr/>
        </p:nvPicPr>
        <p:blipFill>
          <a:blip r:embed="rId5"/>
          <a:stretch/>
        </p:blipFill>
        <p:spPr>
          <a:xfrm>
            <a:off x="7956720" y="476280"/>
            <a:ext cx="46332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800" spc="-1" strike="noStrike">
                <a:solidFill>
                  <a:srgbClr val="800000"/>
                </a:solidFill>
                <a:latin typeface="Calibri"/>
              </a:rPr>
              <a:t>Euron syntyhistoria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457200" y="21337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1998 EU päätti toteuttaa talous- ja rahalii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1998 Euroopan keskuspankki (EKP) aloitti toimintansa Frankfurt am Mainissa Saksa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1999 jäsenmaiden valuutat kytkettiin yhteisvaluuttaan euro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2002 12 jäsenmaassa otettiin käyttöön eurokolikot ja -setel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Dian numeron paikkamerkki 4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6FEEC-E275-419A-810A-59BEE2ADAEA9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Alatunnisteen paikkamerkki 5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Kuva 7" descr=""/>
          <p:cNvPicPr/>
          <p:nvPr/>
        </p:nvPicPr>
        <p:blipFill>
          <a:blip r:embed="rId1"/>
          <a:stretch/>
        </p:blipFill>
        <p:spPr>
          <a:xfrm>
            <a:off x="7885080" y="549360"/>
            <a:ext cx="46368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25000"/>
            <a:ext cx="8229600" cy="7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800" spc="-1" strike="noStrike">
                <a:solidFill>
                  <a:srgbClr val="800000"/>
                </a:solidFill>
                <a:latin typeface="Calibri"/>
              </a:rPr>
              <a:t>Keillä euro käytössä, keillä ei?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457200" y="191628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2002 euron ulkopuolelle jäivät Iso-Britannia, Tanska ja Ruot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2004 unioniin liittyneistä maista euro käytössä: Slovenia, Malta, Kypros, Slovakia ja Vi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ut 2004 liittyneet (Latvia, Liettua, Puola, Tšekki ja Unkari) ja 2007 liittyneet Romania ja Bulgaria käyttävät omia valuuttoj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Suorakulmio 3"/>
          <p:cNvSpPr/>
          <p:nvPr/>
        </p:nvSpPr>
        <p:spPr>
          <a:xfrm>
            <a:off x="324000" y="5445000"/>
            <a:ext cx="6643440" cy="7002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Euroa käyttävät myös unionin ulkopuoliset: Andorra, Kosovo, Monaco, Montenegro, San Marino ja Vatikaanivalt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Dian numeron paikkamerkki 5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6F2DB-DC36-47BC-8BAE-503A10B6B453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Alatunnisteen paikkamerkki 6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Kuva 7" descr=""/>
          <p:cNvPicPr/>
          <p:nvPr/>
        </p:nvPicPr>
        <p:blipFill>
          <a:blip r:embed="rId5"/>
          <a:stretch/>
        </p:blipFill>
        <p:spPr>
          <a:xfrm>
            <a:off x="7740720" y="549360"/>
            <a:ext cx="46332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25360"/>
            <a:ext cx="8229600" cy="62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800" spc="-1" strike="noStrike">
                <a:solidFill>
                  <a:srgbClr val="800000"/>
                </a:solidFill>
                <a:latin typeface="Calibri"/>
              </a:rPr>
              <a:t>EMU:n lähentymiskriteerit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457200" y="1989000"/>
            <a:ext cx="8229600" cy="46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a pääsee EMU:n 3. vaiheeseen ja saa euron käyttöön täytettyään lähentymiskriteeri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649"/>
              </a:spcBef>
              <a:buClr>
                <a:srgbClr val="8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matala inflaatio: inflaatio korkeintaan 1,5 %-yksikköä yli kolmen hintavakaudeltaan parhaan EMU-ma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649"/>
              </a:spcBef>
              <a:buClr>
                <a:srgbClr val="8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matala korkotaso: korkeintaan 2 %-yksikköä yli kolmen hintavakaudeltaan parhaan EMU-maa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spcBef>
                <a:spcPts val="649"/>
              </a:spcBef>
              <a:buClr>
                <a:srgbClr val="8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julkisen talouden alijäämä oltava pieni: alle 3 % maan bruttokansantuotteen määrästä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Dian numeron paikkamerkki 4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2D44B-11B3-41D6-B915-29B7E97AE31D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Alatunnisteen paikkamerkki 5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7" name="Kuva 7" descr=""/>
          <p:cNvPicPr/>
          <p:nvPr/>
        </p:nvPicPr>
        <p:blipFill>
          <a:blip r:embed="rId2"/>
          <a:stretch/>
        </p:blipFill>
        <p:spPr>
          <a:xfrm>
            <a:off x="7885080" y="620640"/>
            <a:ext cx="46368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800" spc="-1" strike="noStrike">
                <a:solidFill>
                  <a:srgbClr val="800000"/>
                </a:solidFill>
                <a:latin typeface="Calibri"/>
              </a:rPr>
              <a:t>Mitä hyötyä eurosta?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457200" y="206028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so valuutta vakaa suhdannevaihtelui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aluutanvaihto jäänyt historiaan euromaiden välilt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aluuttakurssiriskit eivät haittaa yritysten toimintaa euromaiden välill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uro pitänyt korot matalina ja hidastanut inflaatiota euroaluee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hintavertailu helppoa euromaiden välillä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Dian numeron paikkamerkki 4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8A78D-68E2-4876-AC8F-44FEB0316AD2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Alatunnisteen paikkamerkki 5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Kuva 7" descr=""/>
          <p:cNvPicPr/>
          <p:nvPr/>
        </p:nvPicPr>
        <p:blipFill>
          <a:blip r:embed="rId6"/>
          <a:stretch/>
        </p:blipFill>
        <p:spPr>
          <a:xfrm>
            <a:off x="8028000" y="549360"/>
            <a:ext cx="46368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800" spc="-1" strike="noStrike">
                <a:solidFill>
                  <a:srgbClr val="800000"/>
                </a:solidFill>
                <a:latin typeface="Calibri"/>
              </a:rPr>
              <a:t>Mitä haittaa eurosta?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457200" y="184464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KP:n ohjauskorko voi olla väärä maan taloustilanteen kannalta (esim. Irlanti 20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uromaa ei voi harjoittaa maalle sopivaa raha- ja valuuttakurssipolitiikkaa (ei voi esim. devalvoida eli laskea rahan arv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uron kurssi voi olla väärä maan taloustilanteen kannalta (esim. Irlanti 20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ma valuutta voi olla hyödyllinen joissain suhdannevaiheissa (esim. Ruotsi 2008-201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Dian numeron paikkamerkki 4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D951-FEF3-4217-AA00-453991F9F311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Alatunnisteen paikkamerkki 5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Kuva 7" descr=""/>
          <p:cNvPicPr/>
          <p:nvPr/>
        </p:nvPicPr>
        <p:blipFill>
          <a:blip r:embed="rId5"/>
          <a:stretch/>
        </p:blipFill>
        <p:spPr>
          <a:xfrm>
            <a:off x="7956720" y="404640"/>
            <a:ext cx="46332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800" spc="-1" strike="noStrike">
                <a:solidFill>
                  <a:srgbClr val="800000"/>
                </a:solidFill>
                <a:latin typeface="Calibri"/>
              </a:rPr>
              <a:t>Tehtäviä: unionin rakenne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09" name=""/>
          <p:cNvSpPr txBox="1"/>
          <p:nvPr/>
        </p:nvSpPr>
        <p:spPr>
          <a:xfrm>
            <a:off x="457200" y="191628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1) Miksi Euroopan unionia voidaan pitää ainutlaatuisena ilmiönä historiass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2) Mitä tarkoittavat EU:n politiikkalohkot, ja mitkä ovat keskeiset erot lohkojen välillä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3) Politiikkalohkot perustettiin Lissabonin sopimuksessa 2009. Aiemmin unionin ja jäsenvaltioiden päätöksenteon jakoa kuvattiin pilarimallilla. Selvitä internetlähteitä apuna käyttäen, mistä EU:n pilareissa oli kysymy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Dian numeron paikkamerkki 4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A8600-4746-49EA-BA09-70EB0456963D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Alatunnisteen paikkamerkki 5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2" name="Kuva 9" descr=""/>
          <p:cNvPicPr/>
          <p:nvPr/>
        </p:nvPicPr>
        <p:blipFill>
          <a:blip r:embed="rId4"/>
          <a:stretch/>
        </p:blipFill>
        <p:spPr>
          <a:xfrm>
            <a:off x="7740720" y="549360"/>
            <a:ext cx="525240" cy="57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800" spc="-1" strike="noStrike">
                <a:solidFill>
                  <a:srgbClr val="800000"/>
                </a:solidFill>
                <a:latin typeface="Calibri"/>
              </a:rPr>
              <a:t>Tehtäviä: EMU ja eurokriisi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457200" y="292428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1)  Mitkä ovat euron lähentymiskriteerit, ja mitä hyötyjä ja haittoja eurosta 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2) Miksi osa EU-maista ei käytä euro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3) Mitä tarkoittaa eurokriisi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4) Miten eurokriisiä on pyritty korjaamaa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5) Miten eurokriisi on vaikuttanut euron ulkopuolisten maiden haluun ottaa euro käyttöön?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Oval 5"/>
          <p:cNvSpPr/>
          <p:nvPr/>
        </p:nvSpPr>
        <p:spPr>
          <a:xfrm>
            <a:off x="4067280" y="1773360"/>
            <a:ext cx="489744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Käytä tehtävissä 3-5 internetlähteitä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Dian numeron paikkamerkki 5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08CB3-9DC3-4DD8-9A71-5B5F6177F049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Alatunnisteen paikkamerkki 6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8" name="Kuva 9" descr=""/>
          <p:cNvPicPr/>
          <p:nvPr/>
        </p:nvPicPr>
        <p:blipFill>
          <a:blip r:embed="rId6"/>
          <a:stretch/>
        </p:blipFill>
        <p:spPr>
          <a:xfrm>
            <a:off x="7812000" y="692280"/>
            <a:ext cx="453960" cy="50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800" spc="-1" strike="noStrike">
                <a:solidFill>
                  <a:srgbClr val="800000"/>
                </a:solidFill>
                <a:latin typeface="Calibri"/>
              </a:rPr>
              <a:t>Uuden yhteistyön alku 1945-1949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7200" y="1988640"/>
            <a:ext cx="8229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I maailmansodan jälkeen Ranska ja Länsi-Saksa pakotettiin yhteistyöhö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A ja Iso-Britannia vaikuttivat taustalla voimakkaas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kaksi maailmansotaa oli syttynyt Ranskan ja Saksan huonoista suhteista → tämä haluttiin vastaisuudessa estä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autaesirippu laskeutui Euroopan halki 1946 → yhteistyön tarve Länsi-Euroopassa kasvo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Dian numeron paikkamerkki 4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32F75-966D-4E4D-B46C-50DBF4A17A2C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Alatunnisteen paikkamerkki 5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" name="Kuva 7" descr=""/>
          <p:cNvPicPr/>
          <p:nvPr/>
        </p:nvPicPr>
        <p:blipFill>
          <a:blip r:embed="rId1"/>
          <a:stretch/>
        </p:blipFill>
        <p:spPr>
          <a:xfrm>
            <a:off x="7956720" y="476280"/>
            <a:ext cx="46332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28760" y="1916280"/>
            <a:ext cx="3008160" cy="367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800000"/>
                </a:solidFill>
                <a:latin typeface="Calibri"/>
              </a:rPr>
              <a:t>Miksi länsi-liittoutuneet pakottivat Ranskan ja Länsi-Saksan yhteistyöhön sodan jälkeen?</a:t>
            </a:r>
            <a:endParaRPr b="1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3657240" y="2205000"/>
            <a:ext cx="5111640" cy="39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kylmän sodan al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Neuvostoliiton leviämi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kommunismin torjumi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aksan pitäminen aisois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USA:n vaikutusvallan takaaminen Euroopas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voimavarojen yhdistäminen Länsi-Euroopassa, ei enää hajottamin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Ellipsi 6"/>
          <p:cNvSpPr/>
          <p:nvPr/>
        </p:nvSpPr>
        <p:spPr>
          <a:xfrm>
            <a:off x="3708360" y="692280"/>
            <a:ext cx="5256360" cy="151272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ffffff"/>
                </a:solidFill>
                <a:latin typeface="Arial"/>
              </a:rPr>
              <a:t> ”</a:t>
            </a:r>
            <a:r>
              <a:rPr b="0" lang="fi-FI" sz="1600" spc="-1" strike="noStrike">
                <a:solidFill>
                  <a:srgbClr val="ffffff"/>
                </a:solidFill>
                <a:latin typeface="Arial"/>
              </a:rPr>
              <a:t>Americans IN, Germans DOWN and Russians OUT.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ffffff"/>
                </a:solidFill>
                <a:latin typeface="Arial"/>
              </a:rPr>
              <a:t>USA:n, Iso-Britannian ja Ranskan 1940-luvun lopun Eurooppa-politiikka kiteytettynä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Dian numeron paikkamerkki 5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C9E79-4B93-4C5D-B667-6A42AAB551E2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latunnisteen paikkamerkki 7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Kuva 7" descr=""/>
          <p:cNvPicPr/>
          <p:nvPr/>
        </p:nvPicPr>
        <p:blipFill>
          <a:blip r:embed="rId8"/>
          <a:stretch/>
        </p:blipFill>
        <p:spPr>
          <a:xfrm>
            <a:off x="8172360" y="260280"/>
            <a:ext cx="46368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800" spc="-1" strike="noStrike">
                <a:solidFill>
                  <a:srgbClr val="800000"/>
                </a:solidFill>
                <a:latin typeface="Calibri"/>
              </a:rPr>
              <a:t>Euroopan liittovaltio vai ei?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989000"/>
            <a:ext cx="8229600" cy="46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nston Churchillin ehdotus  1946: Euroopan liittovaltio: Ranska (johdossa) + Saks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Haagin suuri Eurooppa-kokous 1948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vain läntisen Euroopan maat mukan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itäisen Euroopan maat Neuvostoliiton vallassa, eivät saaneet osallistu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ajatus Euroopan liittovaltiosta torjutti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kokouksen pohjalta syntyi Euroopan neuvosto 194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Dian numeron paikkamerkki 4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61621-B804-4A5A-B17B-67172EEBFEE3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latunnisteen paikkamerkki 6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Nuoli oikealle 7"/>
          <p:cNvSpPr/>
          <p:nvPr/>
        </p:nvSpPr>
        <p:spPr>
          <a:xfrm>
            <a:off x="7020000" y="2421000"/>
            <a:ext cx="979560" cy="48420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Kuva 7" descr=""/>
          <p:cNvPicPr/>
          <p:nvPr/>
        </p:nvPicPr>
        <p:blipFill>
          <a:blip r:embed="rId1"/>
          <a:stretch/>
        </p:blipFill>
        <p:spPr>
          <a:xfrm>
            <a:off x="8101080" y="476280"/>
            <a:ext cx="46332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Alatunnisteen paikkamerkki 7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Dian numeron paikkamerkki 6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E03DD-24B3-423E-B339-C7E0CAB13326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68000" y="1218960"/>
            <a:ext cx="3311640" cy="113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800000"/>
                </a:solidFill>
                <a:latin typeface="Calibri"/>
              </a:rPr>
              <a:t>Euroopan neuvosto</a:t>
            </a:r>
            <a:endParaRPr b="1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032000" y="836640"/>
            <a:ext cx="511164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perustettiin 194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kylmän sodan aikana EN:ssa länsiblokin ja puolueettomat maat, nykyään lähes kaikk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vaikuttanut talous-, laki-, kulttuuri- ym. aloill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ei päätösvaltaa, ei ylikansallista elintä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ihmisoikeusasiat olennais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1954 tunnus: 12-tähtilippu → nykyinen unionin lipp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5" descr="C:\Users\Kaisa\AppData\Local\Temp\shutterstock_60735535.jpg"/>
          <p:cNvPicPr/>
          <p:nvPr/>
        </p:nvPicPr>
        <p:blipFill>
          <a:blip r:embed="rId1"/>
          <a:stretch/>
        </p:blipFill>
        <p:spPr>
          <a:xfrm>
            <a:off x="611280" y="2924280"/>
            <a:ext cx="2384280" cy="3384360"/>
          </a:xfrm>
          <a:prstGeom prst="rect">
            <a:avLst/>
          </a:prstGeom>
          <a:ln w="0">
            <a:noFill/>
          </a:ln>
        </p:spPr>
      </p:pic>
      <p:pic>
        <p:nvPicPr>
          <p:cNvPr id="304" name="Kuva 7" descr=""/>
          <p:cNvPicPr/>
          <p:nvPr/>
        </p:nvPicPr>
        <p:blipFill>
          <a:blip r:embed="rId2"/>
          <a:stretch/>
        </p:blipFill>
        <p:spPr>
          <a:xfrm>
            <a:off x="7956720" y="333360"/>
            <a:ext cx="46332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125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800" spc="-1" strike="noStrike">
                <a:solidFill>
                  <a:srgbClr val="800000"/>
                </a:solidFill>
                <a:latin typeface="Calibri"/>
              </a:rPr>
              <a:t>Schumanin julistus 1950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2565000"/>
            <a:ext cx="8229600" cy="406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ean Monnet (belgialainen talousmies) ja Robert Schuman (Ranskan ulkoministeri) 8.5.19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keskeinen ajatus koski taloudellista yhteistyöt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hiili- ja teräsyhteisö: Ranskan ja Länsi-Saksan hiili- ja terästeollisuus yhteishallintaan 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- sota- ja energiateollisuus yhteisvalvont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- maiden välinen taloudellinen riippuvuus 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astakkainasettelu historia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Dian numeron paikkamerkki 4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88112-38E8-4F21-9644-40CF0906AAD8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Alatunnisteen paikkamerkki 6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4" descr="C:\Users\Kaisa\AppData\Local\Temp\shutterstock_52235620.jpg"/>
          <p:cNvPicPr/>
          <p:nvPr/>
        </p:nvPicPr>
        <p:blipFill>
          <a:blip r:embed="rId4"/>
          <a:stretch/>
        </p:blipFill>
        <p:spPr>
          <a:xfrm>
            <a:off x="6588000" y="1197000"/>
            <a:ext cx="2016360" cy="1224000"/>
          </a:xfrm>
          <a:prstGeom prst="rect">
            <a:avLst/>
          </a:prstGeom>
          <a:ln w="0">
            <a:noFill/>
          </a:ln>
        </p:spPr>
      </p:pic>
      <p:pic>
        <p:nvPicPr>
          <p:cNvPr id="310" name="Kuva 7" descr=""/>
          <p:cNvPicPr/>
          <p:nvPr/>
        </p:nvPicPr>
        <p:blipFill>
          <a:blip r:embed="rId5"/>
          <a:stretch/>
        </p:blipFill>
        <p:spPr>
          <a:xfrm>
            <a:off x="7885080" y="333360"/>
            <a:ext cx="463680" cy="457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9:04:50Z</dcterms:created>
  <dc:creator>Ilmari</dc:creator>
  <dc:description/>
  <dc:language>en-US</dc:language>
  <cp:lastModifiedBy>sme</cp:lastModifiedBy>
  <dcterms:modified xsi:type="dcterms:W3CDTF">2011-08-10T08:36:38Z</dcterms:modified>
  <cp:revision>85</cp:revision>
  <dc:subject/>
  <dc:title>II Miksi Eurooppa yhdentyy</dc:title>
</cp:coreProperties>
</file>